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35B74-42F1-4A42-8EA4-95E6961DC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08817-C58D-4838-8340-06DD20FCE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C14C8-0B7C-4622-BBCA-15ACAD508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9A406-F863-48ED-94E3-5B39CD1A3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96EE6-7BB8-4011-99D4-C360BA5DA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6B4F0-5C6F-43CA-AB6D-9A52A6BBE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9EA93-8EB9-4BE1-843D-8EC58F39B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3F3B6-CE22-4C52-B934-576675495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CA556-BC9F-478D-B65B-B1261034B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39993-8AC4-479C-BC43-B95C6F5BD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4FD94-B41D-4B96-A80A-87645029C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03BA5-0722-4F93-A6BD-9BED7D02A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113E-202C-4AD9-AD27-0E766EB90CA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267920"/>
            <a:ext cx="8229600" cy="2001960"/>
          </a:xfrm>
          <a:prstGeom prst="rect">
            <a:avLst/>
          </a:prstGeom>
          <a:noFill/>
          <a:ln w="0">
            <a:noFill/>
          </a:ln>
        </p:spPr>
        <p:txBody>
          <a:bodyPr anchor="ctr">
            <a:noAutofit/>
          </a:bodyPr>
          <a:p>
            <a:pPr indent="0" algn="ctr" rtl="1">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0000"/>
                </a:solidFill>
                <a:latin typeface="Arial"/>
                <a:cs typeface="B Mitra"/>
              </a:rPr>
              <a:t>نظریه های یادگیری رفتاری</a:t>
            </a:r>
            <a:br>
              <a:rPr sz="5400"/>
            </a:br>
            <a:r>
              <a:rPr b="1" lang="fa-IR" sz="5400" spc="-1" strike="noStrike">
                <a:solidFill>
                  <a:srgbClr val="ff0000"/>
                </a:solidFill>
                <a:latin typeface="Arial"/>
                <a:cs typeface="B Mitra"/>
              </a:rPr>
              <a:t>پاولف، ثرندایک و اسکینر</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08000" y="764640"/>
            <a:ext cx="9036000" cy="452628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B Nazanin"/>
              </a:rPr>
              <a:t>(UR) </a:t>
            </a:r>
            <a:r>
              <a:rPr b="0" lang="fa-IR" sz="2400" spc="-1" strike="noStrike">
                <a:solidFill>
                  <a:srgbClr val="000000"/>
                </a:solidFill>
                <a:latin typeface="tahoma"/>
                <a:cs typeface="B Nazanin"/>
              </a:rPr>
              <a:t>پاسخ غیر شرطی ترشح بزاق &lt;----------------- محرک غیر شرطی غذا</a:t>
            </a:r>
            <a:r>
              <a:rPr b="0" lang="fa-IR" sz="2400" spc="-1" strike="noStrike">
                <a:solidFill>
                  <a:srgbClr val="000000"/>
                </a:solidFill>
                <a:latin typeface="tahoma"/>
                <a:ea typeface="B Nazanin"/>
              </a:rPr>
              <a:t> </a:t>
            </a:r>
            <a:r>
              <a:rPr b="0" lang="fa-IR" sz="2400" spc="-1" strike="noStrike">
                <a:solidFill>
                  <a:srgbClr val="000000"/>
                </a:solidFill>
                <a:latin typeface="tahoma"/>
                <a:ea typeface="B Nazanin"/>
              </a:rPr>
              <a:t>(</a:t>
            </a:r>
            <a:r>
              <a:rPr b="0" lang="en-US" sz="2400" spc="-1" strike="noStrike">
                <a:solidFill>
                  <a:srgbClr val="000000"/>
                </a:solidFill>
                <a:latin typeface="tahoma"/>
                <a:ea typeface="B Nazanin"/>
              </a:rPr>
              <a:t>U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ahoma"/>
                <a:ea typeface="B Nazanin"/>
              </a:rPr>
              <a:t>(UR) </a:t>
            </a:r>
            <a:r>
              <a:rPr b="0" lang="fa-IR" sz="2400" spc="-1" strike="noStrike">
                <a:solidFill>
                  <a:srgbClr val="000000"/>
                </a:solidFill>
                <a:latin typeface="tahoma"/>
                <a:cs typeface="B Nazanin"/>
              </a:rPr>
              <a:t>پاسخ غیر شرطی تیزکردن گوش&lt;------------- حرک غیرشرطی صدای زنگ</a:t>
            </a:r>
            <a:r>
              <a:rPr b="0" lang="fa-IR" sz="2400" spc="-1" strike="noStrike">
                <a:solidFill>
                  <a:srgbClr val="000000"/>
                </a:solidFill>
                <a:latin typeface="tahoma"/>
                <a:ea typeface="B Nazanin"/>
              </a:rPr>
              <a:t> </a:t>
            </a:r>
            <a:r>
              <a:rPr b="0" lang="fa-IR" sz="2400" spc="-1" strike="noStrike">
                <a:solidFill>
                  <a:srgbClr val="000000"/>
                </a:solidFill>
                <a:latin typeface="tahoma"/>
                <a:ea typeface="B Nazanin"/>
              </a:rPr>
              <a:t>(</a:t>
            </a:r>
            <a:r>
              <a:rPr b="0" lang="en-US" sz="2400" spc="-1" strike="noStrike">
                <a:solidFill>
                  <a:srgbClr val="000000"/>
                </a:solidFill>
                <a:latin typeface="tahoma"/>
                <a:ea typeface="B Nazanin"/>
              </a:rPr>
              <a:t>U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a-IR" sz="2400" spc="-1" strike="noStrike">
                <a:solidFill>
                  <a:srgbClr val="000000"/>
                </a:solidFill>
                <a:latin typeface="tahoma"/>
                <a:cs typeface="B Nazanin"/>
              </a:rPr>
              <a:t>ترشح بزاق &lt;------------ چندین بار -------------- ارائه صدای زنگ + ارائه غذا</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a-IR" sz="2400" spc="-1" strike="noStrike">
                <a:solidFill>
                  <a:srgbClr val="000000"/>
                </a:solidFill>
                <a:latin typeface="tahoma"/>
                <a:ea typeface="B Nazanin"/>
              </a:rPr>
              <a:t>(</a:t>
            </a:r>
            <a:r>
              <a:rPr b="0" lang="en-US" sz="2400" spc="-1" strike="noStrike">
                <a:solidFill>
                  <a:srgbClr val="000000"/>
                </a:solidFill>
                <a:latin typeface="tahoma"/>
                <a:ea typeface="B Nazanin"/>
              </a:rPr>
              <a:t>CR) </a:t>
            </a:r>
            <a:r>
              <a:rPr b="0" lang="fa-IR" sz="2400" spc="-1" strike="noStrike">
                <a:solidFill>
                  <a:srgbClr val="000000"/>
                </a:solidFill>
                <a:latin typeface="tahoma"/>
                <a:cs typeface="B Nazanin"/>
              </a:rPr>
              <a:t>پاسخ شرطی ترشح بزاق&lt;--------------------- ارائه صدای زنگ به تنهایی</a:t>
            </a:r>
            <a:r>
              <a:rPr b="0" lang="fa-IR" sz="2400" spc="-1" strike="noStrike">
                <a:solidFill>
                  <a:srgbClr val="000000"/>
                </a:solidFill>
                <a:latin typeface="tahoma"/>
                <a:ea typeface="B Nazanin"/>
              </a:rPr>
              <a:t> </a:t>
            </a:r>
            <a:r>
              <a:rPr b="0" lang="fa-IR" sz="2400" spc="-1" strike="noStrike">
                <a:solidFill>
                  <a:srgbClr val="000000"/>
                </a:solidFill>
                <a:latin typeface="tahoma"/>
                <a:ea typeface="B Nazanin"/>
              </a:rPr>
              <a:t>(</a:t>
            </a:r>
            <a:r>
              <a:rPr b="0" lang="en-US" sz="2400" spc="-1" strike="noStrike">
                <a:solidFill>
                  <a:srgbClr val="000000"/>
                </a:solidFill>
                <a:latin typeface="tahoma"/>
                <a:ea typeface="B Nazanin"/>
              </a:rPr>
              <a:t>CS)</a:t>
            </a: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394920" y="259920"/>
            <a:ext cx="8497800" cy="6264360"/>
          </a:xfrm>
          <a:prstGeom prst="rect">
            <a:avLst/>
          </a:prstGeom>
          <a:noFill/>
          <a:ln w="0">
            <a:noFill/>
          </a:ln>
        </p:spPr>
        <p:txBody>
          <a:bodyPr anchor="t">
            <a:normAutofit fontScale="8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Vazir"/>
                <a:cs typeface="B Nazanin"/>
              </a:rPr>
              <a:t>خاموش کردن رفتار پاسخگر</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azir"/>
                <a:ea typeface="B Nazanin"/>
              </a:rPr>
              <a:t>   در نظریه شرطی سازی پاسخگر ،پاسخ شرطی به محرک غیرشرطی وابسته است. به همین دلیل پاولف محرک غیرشرطی را تقویت کننده و همراه شدن آن با محرک شرطی را تقویت نامید. همان گونه که همراه شدن محرک شرطی و غیر شرطی منجربه شرطی شدن می شود ،تکرارمحض محرک شرطی بدون همراهی محرک غیرشرطی ،منجر به توقف پاسخ شرطی ، یعنی ناشرطی شدن یا خاموشی رفتارپاسخگر می شود. درآزمایش پاولف با سگها نیز معلوم گشت که اگر محرک غیرشرطی غذا با محرک شرطی زنگ همراه نباشد پس از مدتی حیوان از دادن پاسخ باز می ایستد. بنابراین ،خاموشی پاسخگر را می توان به صورت حذف پاسخ شرطی ،بر اثر همراه نشدن محرک غیرشرطی با محرک شرطی ،تعریف کر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68360" y="259920"/>
            <a:ext cx="8229600" cy="6264360"/>
          </a:xfrm>
          <a:prstGeom prst="rect">
            <a:avLst/>
          </a:prstGeom>
          <a:noFill/>
          <a:ln w="0">
            <a:noFill/>
          </a:ln>
        </p:spPr>
        <p:txBody>
          <a:bodyPr anchor="t">
            <a:normAutofit fontScale="89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Vazir"/>
                <a:cs typeface="B Nazanin"/>
              </a:rPr>
              <a:t>نمونه ای از شرطی کردن رفتار پاسخ گر در انسان</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azir"/>
                <a:ea typeface="B Nazanin"/>
              </a:rPr>
              <a:t>      جان بی.واتسون نخستین روانشناسی بود که کاربرد نظریه ی شرطی سازی پاولف را با انسان نشان داد. او معتقد بود که انسان به هنگام تولد به تعداد کمی بازتاب و هیجان مجهز است و از راه شرطی شدن کلاسیک این بازتاب های اولیه با محرک های زیادی تداعی می شود. او برای اثبات عقیده اش به کمک همکارش روزالی رینر به شرطی کردن ترس در کودکی </a:t>
            </a:r>
            <a:r>
              <a:rPr b="0" lang="fa-IR" sz="2800" spc="-1" strike="noStrike">
                <a:solidFill>
                  <a:srgbClr val="000000"/>
                </a:solidFill>
                <a:latin typeface="Vazir"/>
                <a:ea typeface="B Nazanin"/>
              </a:rPr>
              <a:t>11</a:t>
            </a:r>
            <a:r>
              <a:rPr b="0" lang="fa-IR" sz="2800" spc="-1" strike="noStrike">
                <a:solidFill>
                  <a:srgbClr val="000000"/>
                </a:solidFill>
                <a:latin typeface="Vazir"/>
                <a:cs typeface="B Nazanin"/>
              </a:rPr>
              <a:t>ماهه پرادختند. در این آزمایش شرطی کردن ، محرک غیرشرطی صدای شدیدی بود که به طور طبیعی پاسخ ترس و از جا پریدن را در کودک سبب می شد. محرک شرطی موشی بود که چندین بار به هنگام صدای شدید به کودک نشان داده شد. هر چند پیش از شرطی شدن کودک با این موش بازی می کرد ،اما پس از شرطی شدن با دیدن موش ترسیده و از آن دور شد. حتی کودک با دیدن حیوانها و اشیای پشمالوی دیگری همچون خرگوش ،سگ و ماسک بابانوئل نیزهمان واکنش را از خود نشان داد.</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68360" y="549360"/>
            <a:ext cx="8229600" cy="5129280"/>
          </a:xfrm>
          <a:prstGeom prst="rect">
            <a:avLst/>
          </a:prstGeom>
          <a:noFill/>
          <a:ln w="0">
            <a:noFill/>
          </a:ln>
        </p:spPr>
        <p:txBody>
          <a:bodyPr anchor="t">
            <a:normAutofit fontScale="79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abic UI Text"/>
                <a:cs typeface="B Nazanin"/>
              </a:rPr>
              <a:t>تعمیم و تمیز محرک</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22222"/>
                </a:solidFill>
                <a:latin typeface=".Arabic UI Text"/>
                <a:cs typeface="B Nazanin"/>
              </a:rPr>
              <a:t>هنگامی که جانوری شرطی شده باشد و در برابر محرکی شرطی، پاسخی شرطی بدهد؛ در برابر محرک‌های شرطی مشابه هم پاسخ می‌دهد. برای مثال سگی که در برابر صدای سوت پاسخ ترشح بزاق را نشان می‌دهد؛ به سوت‌های بالاتر و پایین‌تر نیز همان پاسخ را ارائه می‌ده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22222"/>
                </a:solidFill>
                <a:latin typeface=".Arabic UI Text"/>
                <a:cs typeface="B Nazanin"/>
              </a:rPr>
              <a:t>اصل تعمیم بیان می‌کند که هر چه یک محرک شرطی جدید، با محرک شرطی پیشین شباهت بیش‌تری داشته باشد، احتمال بروز پاسخ شرطی در برابر محرک جدید افزایش می‌یاب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baseline="30000">
                <a:solidFill>
                  <a:srgbClr val="0b0080"/>
                </a:solidFill>
                <a:latin typeface=".Arabic UI Text"/>
                <a:ea typeface="B Nazanin"/>
              </a:rPr>
              <a:t> </a:t>
            </a:r>
            <a:r>
              <a:rPr b="0" lang="fa-IR" sz="3200" spc="-1" strike="noStrike">
                <a:solidFill>
                  <a:srgbClr val="222222"/>
                </a:solidFill>
                <a:latin typeface=".Arabic UI Text"/>
                <a:cs typeface="B Nazanin"/>
              </a:rPr>
              <a:t>تعمیم واکنش به تفاوت‌هاست؛ از طریق تقویت تعمیم افراد شرطی می‌شوند تا دو محرک را از هم تمیز ده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95280" y="692280"/>
            <a:ext cx="8229600" cy="4525920"/>
          </a:xfrm>
          <a:prstGeom prst="rect">
            <a:avLst/>
          </a:prstGeom>
          <a:noFill/>
          <a:ln w="0">
            <a:noFill/>
          </a:ln>
        </p:spPr>
        <p:txBody>
          <a:bodyPr anchor="t">
            <a:normAutofit fontScale="79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بازگشت خود به خو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گر پس از خاموشی رفتار مورد نظر (مثلا ترشح بزاق در سگ) حیوان دوباره به آزمایشگاه آورده شود و محرک شرطی(</a:t>
            </a:r>
            <a:r>
              <a:rPr b="0" lang="en-US" sz="3200" spc="-1" strike="noStrike">
                <a:solidFill>
                  <a:srgbClr val="000000"/>
                </a:solidFill>
                <a:latin typeface="Arial"/>
                <a:ea typeface="B Nazanin"/>
              </a:rPr>
              <a:t>CS</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ارائه شود سگ دوباره (هرچند با شدت کمتر) پاسخ خواهد داد. این پدیده‌ای است که پاولف آن را بازگشت خود به خو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a:t>
            </a:r>
            <a:r>
              <a:rPr b="0" lang="en-US" sz="3200" spc="-1" strike="noStrike">
                <a:solidFill>
                  <a:srgbClr val="000000"/>
                </a:solidFill>
                <a:latin typeface="Arial"/>
                <a:ea typeface="B Nazanin"/>
              </a:rPr>
              <a:t>Spontaneous Recovery</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نامید. حال اگر بخواهیم خاموشی رفتار شرطی شده کامل باشد، باید دوباره </a:t>
            </a:r>
            <a:r>
              <a:rPr b="0" lang="en-US" sz="3200" spc="-1" strike="noStrike">
                <a:solidFill>
                  <a:srgbClr val="000000"/>
                </a:solidFill>
                <a:latin typeface="Arial"/>
                <a:ea typeface="B Nazanin"/>
              </a:rPr>
              <a:t>CS</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بدون </a:t>
            </a:r>
            <a:r>
              <a:rPr b="0" lang="en-US" sz="3200" spc="-1" strike="noStrike">
                <a:solidFill>
                  <a:srgbClr val="000000"/>
                </a:solidFill>
                <a:latin typeface="Arial"/>
                <a:ea typeface="B Nazanin"/>
              </a:rPr>
              <a:t>US</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ارائه شود و شاید لازم باشد این کار چندین بار و در زمانهای متفاوت تکرار شود، تا سرانجام اثری از بازگشت خود به خود نباش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95280" y="259920"/>
            <a:ext cx="8229600" cy="6597720"/>
          </a:xfrm>
          <a:prstGeom prst="rect">
            <a:avLst/>
          </a:prstGeom>
          <a:noFill/>
          <a:ln w="0">
            <a:noFill/>
          </a:ln>
        </p:spPr>
        <p:txBody>
          <a:bodyPr anchor="t">
            <a:normAutofit fontScale="99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شرطی سازی سطح بالاتر</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منظور از شرطی سازی سطح بالاتر</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a:t>
            </a:r>
            <a:r>
              <a:rPr b="0" lang="en-US" sz="3200" spc="-1" strike="noStrike">
                <a:solidFill>
                  <a:srgbClr val="000000"/>
                </a:solidFill>
                <a:latin typeface="Arial"/>
                <a:ea typeface="B Nazanin"/>
              </a:rPr>
              <a:t>Higher older conditioning</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عبارت است از زنجیر کردن محرک‌های مختلف دیگر به ارتباط بین </a:t>
            </a:r>
            <a:r>
              <a:rPr b="0" lang="en-US" sz="3200" spc="-1" strike="noStrike">
                <a:solidFill>
                  <a:srgbClr val="000000"/>
                </a:solidFill>
                <a:latin typeface="Arial"/>
                <a:ea typeface="B Nazanin"/>
              </a:rPr>
              <a:t>S→R</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برای مثال پاولف پس از شرطی کردن سگ به صدای زنگ ، یک چراغ سبز را نیز وارد آزمایش کرد. به این صورت که قبل از ارائه زنگ یک چراغ سبز نیز روشن می‌کرد و سپس عامل تقویتی (گوشت) داده می‌شد. پس از مدتی حیوان به چراغ سبز نیز شرطی می‌شد و با ارائه آن به تنهایی نیز ، حیوان پاسخ شرطی نشان می‌داد. این فرآیند بدین صورت نمایش داده می‌شود.</a:t>
            </a:r>
            <a:endParaRPr b="0" lang="en-US" sz="3200" spc="-1" strike="noStrike">
              <a:solidFill>
                <a:srgbClr val="000000"/>
              </a:solidFill>
              <a:latin typeface="Arial"/>
            </a:endParaRPr>
          </a:p>
        </p:txBody>
      </p:sp>
      <p:pic>
        <p:nvPicPr>
          <p:cNvPr id="58" name="Picture 2" descr=""/>
          <p:cNvPicPr/>
          <p:nvPr/>
        </p:nvPicPr>
        <p:blipFill>
          <a:blip r:embed="rId1"/>
          <a:stretch/>
        </p:blipFill>
        <p:spPr>
          <a:xfrm>
            <a:off x="250920" y="4941720"/>
            <a:ext cx="2881080" cy="194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cs typeface="B Nazanin"/>
              </a:rPr>
              <a:t>شرطی سازی وسیله ای ثرندایک</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80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دوارد لی ثرندایک، در اواخر قرن نوزدهم، از طریق آزمایش‌های معروف خود با گربه نشان داد که چگونه جانور به تدریج از طریق آزمایش و خطا یاد می‌گیرد. هنگامی که گربه در قفس‌های موسوم به جعبه معما، قرار می‌گرفت، برای رسیدن به غذا رفتارهایی انجام می‌داد؛ ولی وقتی کوشش‌هایی منجر به غذا می‌شدند، میزان خطای حیوان کاهش می‌یافت تا جایی که بدون هیچ کوشش اضافی موفّق می‌شد به غذا دست یاب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بنابراین وقتی پاداشی بلافاصله به دنبال یکی از رفتارها بیاید، یادگیری عمل قوی‌تر می‌شود. ثرندایک این نیرومند شدن را قانون اثر (به انگلیسی: </a:t>
            </a:r>
            <a:r>
              <a:rPr b="0" lang="en-US" sz="3200" spc="-1" strike="noStrike">
                <a:solidFill>
                  <a:srgbClr val="000000"/>
                </a:solidFill>
                <a:latin typeface="Arial"/>
                <a:ea typeface="B Nazanin"/>
              </a:rPr>
              <a:t>Law of Effect</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نامی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0" y="-360"/>
            <a:ext cx="9036000" cy="6669000"/>
          </a:xfrm>
          <a:prstGeom prst="rect">
            <a:avLst/>
          </a:prstGeom>
          <a:noFill/>
          <a:ln w="0">
            <a:noFill/>
          </a:ln>
        </p:spPr>
        <p:txBody>
          <a:bodyPr anchor="t">
            <a:normAutofit fontScale="86000"/>
          </a:bodyPr>
          <a:p>
            <a:pPr algn="just" rtl="1">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B Nazanin"/>
              </a:rPr>
              <a:t>ثرندايک با ترتيب دادن آزمايش معروف خود، يعنى قرار دادن گربه گرسنه‌اى در داخل قفس، سعى مى‌کند او را با موقعيت مسأله‌آفرينى روبه‌رو کند، تا مجبور شود براى رسيدن به هدف ـ به دست آوردن غذا ـ تلاش کند. در اين آزمايش، گربه بر اثر حرکت‌هاى متعدد و تصادفي، به دسته اهرم فشار مى‌آورد و به دنبال آن به مواد غذايى دسترسى پيدا مى‌کند. بتدريج، دفعات تلاش و مدت زمان لازم براى خروج از قفس و رسيدن به غذا، به طور نامنظم کاهش مى‌يابد تا اينکه گربه رابطه فشار آوردن به دستهيادگيري، به اين نتيجه رسيد که گربه به هيچ‌وجه متوجه راه فرار از جعبه نمى‌شود، بلکه اين کار را در نتيجه تثبيت تدريجى پاسخ‌هاى پاداش يافته و زوال پاسخ‌هاى ناموفق مستلزم تبيين ماشين‌گرايانه از نحوه تغيير عملکرد حيوان در فاصله نخستين کوشش‌‌هاى بعدى است. در يادگيرى ماشيني، هيچ‌گونه نيازى به هوش و فراست نيست. ثرندايک در آزمايش‌هاى مختلف خود به اين نتيجه رسيد که او هيچ نوع نشانه‌اى عملى که کوچکترين شباهتى به استدلال داشته باشد، نيافته است.</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179280" y="333360"/>
            <a:ext cx="8640720" cy="4525920"/>
          </a:xfrm>
          <a:prstGeom prst="rect">
            <a:avLst/>
          </a:prstGeom>
          <a:noFill/>
          <a:ln w="0">
            <a:noFill/>
          </a:ln>
        </p:spPr>
        <p:txBody>
          <a:bodyPr anchor="t">
            <a:normAutofit fontScale="90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نتایج آزمایش‌های ثرندای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ثرندایک از آزمایش‌های خود با گربه چنین نتیجه می‌گیرد که: </a:t>
            </a:r>
            <a:endParaRPr b="0" lang="en-US" sz="3200" spc="-1" strike="noStrike">
              <a:solidFill>
                <a:srgbClr val="000000"/>
              </a:solidFill>
              <a:latin typeface="Arial"/>
            </a:endParaRPr>
          </a:p>
          <a:p>
            <a:pPr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حیوان کورکورانه و بی‌هدف رفتار می‌کند.</a:t>
            </a:r>
            <a:endParaRPr b="0" lang="en-US" sz="3200" spc="-1" strike="noStrike">
              <a:solidFill>
                <a:srgbClr val="000000"/>
              </a:solidFill>
              <a:latin typeface="Arial"/>
            </a:endParaRPr>
          </a:p>
          <a:p>
            <a:pPr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پیشرفت او در یادگیری با روش آزمایش و خطا یا کوشش و خطا انجام می‌شود.</a:t>
            </a:r>
            <a:endParaRPr b="0" lang="en-US" sz="3200" spc="-1" strike="noStrike">
              <a:solidFill>
                <a:srgbClr val="000000"/>
              </a:solidFill>
              <a:latin typeface="Arial"/>
            </a:endParaRPr>
          </a:p>
          <a:p>
            <a:pPr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پاسخ درست را بطور اتفاقی به دست می‌آور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یادگیری در او بر اثر ارائه پاداش (در این آزمایش‌ها ماهی بود) صورت می‌گیر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Picture 2" descr=""/>
          <p:cNvPicPr/>
          <p:nvPr/>
        </p:nvPicPr>
        <p:blipFill>
          <a:blip r:embed="rId1"/>
          <a:stretch/>
        </p:blipFill>
        <p:spPr>
          <a:xfrm>
            <a:off x="809640" y="4402080"/>
            <a:ext cx="4449600" cy="2122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78920" y="189000"/>
            <a:ext cx="8518680" cy="4525920"/>
          </a:xfrm>
          <a:prstGeom prst="rect">
            <a:avLst/>
          </a:prstGeom>
          <a:noFill/>
          <a:ln w="0">
            <a:noFill/>
          </a:ln>
        </p:spPr>
        <p:txBody>
          <a:bodyPr anchor="t">
            <a:normAutofit fontScale="75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قوانین حاصل از آزمایش‌ها</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ثرندایک از چهار مورد نتیجه گیری در آزمایش‌هایش موفق به تنظیم قانون یادگیری در نظریه خود شد که سه قانون آن یعنی اثر ، قانون تمرین و قانون آمادگی قانون‌های اصلی و پنج قانون آن یعنی قانون پاسخ‌های چندگانه ، قانون نگرش ، قانون غلبه عناصر ، قانون پاسخ بوسیله قیاس و قانون جابجایی تداعی قانون‌های فرعی هستن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ff0000"/>
                </a:solidFill>
                <a:uFillTx/>
                <a:latin typeface="Arial"/>
                <a:cs typeface="B Nazanin"/>
              </a:rPr>
              <a:t>قانون اصلی نظریه ترندایک</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قانون اثر</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ین قانون بیان می‌دارد که میزان نیرومند شدن یا نشدن یک پیوند محرک - پاسخ بیشتر به پیامدهای آن بستگی دارد و نه به میزان تمری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57200" y="1600200"/>
            <a:ext cx="8229600" cy="4525920"/>
          </a:xfrm>
          <a:prstGeom prst="rect">
            <a:avLst/>
          </a:prstGeom>
          <a:noFill/>
          <a:ln w="0">
            <a:noFill/>
          </a:ln>
        </p:spPr>
        <p:txBody>
          <a:bodyPr anchor="t">
            <a:normAutofit fontScale="8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Vazir"/>
                <a:cs typeface="B Nazanin"/>
              </a:rPr>
              <a:t>نظریه شرطی سازی پاسخگر یا کلاسیک پاولفی</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azir"/>
                <a:ea typeface="B Nazanin"/>
              </a:rPr>
              <a:t>    آنچه به نظریه ی شرطی سازی پاسخگر،کلاسیک ،پاولفی یا بازتابی شهرت یافته حاصل پژوهش های ایوان پترویچ پاولف بوده است. کشف مهم پاولف این بود که بازتاب های طبیعی یا نخستین جاندار را می توان به کمک شرطی کردن گسترش داد. بازتاب به رابطه ساده بین یک پاسخ و محرکی که از طریق تاثیر گذاری بریکی از اعضای حسی آن پاسخ را تولید می کند گفته می شود. مانند ترشح بزاق بر اثرقرار گرفتن غذا در دهان و... که به اینها رفتار پاسخگر نیز گفته می شو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24000" y="620640"/>
            <a:ext cx="8229600" cy="4525920"/>
          </a:xfrm>
          <a:prstGeom prst="rect">
            <a:avLst/>
          </a:prstGeom>
          <a:noFill/>
          <a:ln w="0">
            <a:noFill/>
          </a:ln>
        </p:spPr>
        <p:txBody>
          <a:bodyPr anchor="t">
            <a:normAutofit fontScale="82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در واقع این قانون را اصل خویشاوندی یا لذت و رنج نیز می‌توان نامید که بیان گر این واقعیت است که اگر محرکی خوشایند و لذت بخش باشد رابطه‌اش با پاسخ تقویت می‌شود، اما اگر ناخوشایند باشد ارتباط میان آنها سست و بی اثر می‌شود. این مهمترین قانون یادگیری ترندایک است.</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قانون تمرین</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بنا به این قانون هر قدر محرکی که پاسخ رضایت بخشی (لذت بخشی) به دنبال دارد، بیشتر تکرار شود رابطه محرک و پاسخ استوارتر و پایدارتر می‌شود. اما اگر تمرین درکار نباشد این رابطه از میان می‌رو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24000" y="333360"/>
            <a:ext cx="8434080" cy="4525920"/>
          </a:xfrm>
          <a:prstGeom prst="rect">
            <a:avLst/>
          </a:prstGeom>
          <a:noFill/>
          <a:ln w="0">
            <a:noFill/>
          </a:ln>
        </p:spPr>
        <p:txBody>
          <a:bodyPr anchor="t">
            <a:normAutofit fontScale="97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قانون آمادگی</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ین قانون در برگیرنده آمادگی جسمی و روانی یادگیرنده برای آغاز هر گونه فعالیتی است و بیشتر با انگیزش (</a:t>
            </a:r>
            <a:r>
              <a:rPr b="0" lang="en-US" sz="3200" spc="-1" strike="noStrike">
                <a:solidFill>
                  <a:srgbClr val="000000"/>
                </a:solidFill>
                <a:latin typeface="Arial"/>
                <a:ea typeface="B Nazanin"/>
              </a:rPr>
              <a:t>Motivation</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یادگیرنده ارتباط دارد. ترندایک برای توضیح قانون آمادگی از اصطلاحاتی نظیر واحد هدایت (</a:t>
            </a:r>
            <a:r>
              <a:rPr b="0" lang="en-US" sz="3200" spc="-1" strike="noStrike">
                <a:solidFill>
                  <a:srgbClr val="000000"/>
                </a:solidFill>
                <a:latin typeface="Arial"/>
                <a:ea typeface="B Nazanin"/>
              </a:rPr>
              <a:t>Conduction</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آماده هدایت شدن استفاده می‌کند و می‌گوید فردی که آمادگی دارد آموختن و دیگر فعالیت‌های مربوط به یادگیری برایش خوشایند است و بر عکس.</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2" descr=""/>
          <p:cNvPicPr/>
          <p:nvPr/>
        </p:nvPicPr>
        <p:blipFill>
          <a:blip r:embed="rId1"/>
          <a:stretch/>
        </p:blipFill>
        <p:spPr>
          <a:xfrm>
            <a:off x="971640" y="4005360"/>
            <a:ext cx="6121440" cy="259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cs typeface="B Nazanin"/>
              </a:rPr>
              <a:t>شرطی سازی کنشگر اسکینر</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fontScale="81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به احتمال زیاد حیوان هایی را دیده اید که به حرف صاحبشان گوش می دهند و انگار که آن را متوجه می شوند. یا در باغ وحش دیده اید که حیوان به کمک مربی خود چه حرکات خارق العاده ای انجام می دهد. این موارد با استفاده از اصول شرطی سازی امکان پذیر است. وقتی سگ صدای پای صاحبش یا صدای ظرف غذا را می شنود واکنش از خود نشان می دهد. در واقع حیوان یاد گرفته است که این حالت ها را نشانه دریافت غذا بداند. شرطی سازی به دو صورت شرطی سازی کلاسیک و شرطی سازی کنشگر انجام می گیرد. شرطی سازی کنشگر را اولین بار در نظریه اسکینر می بینیم و شرطی سازی کلاسیک را در کارهای پاول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2" descr=""/>
          <p:cNvPicPr/>
          <p:nvPr/>
        </p:nvPicPr>
        <p:blipFill>
          <a:blip r:embed="rId1"/>
          <a:stretch/>
        </p:blipFill>
        <p:spPr>
          <a:xfrm>
            <a:off x="755640" y="907920"/>
            <a:ext cx="7488360" cy="426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79280" y="0"/>
            <a:ext cx="8856720" cy="4525920"/>
          </a:xfrm>
          <a:prstGeom prst="rect">
            <a:avLst/>
          </a:prstGeom>
          <a:noFill/>
          <a:ln w="0">
            <a:noFill/>
          </a:ln>
        </p:spPr>
        <p:txBody>
          <a:bodyPr anchor="t">
            <a:norm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رفتار پاسخ گر و رفتار کنشگر</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رفتار پاسخ گر، پاسخ هایی هستند که به طور خودکار به وسیله یک محرک شناخته شده فراخوانده می شوند. پاسخ های غیر شرطی مانند همه بازتاب ها، پرش درست در نتیجه سوزن خوردن، ترشح بزاق با غذا خوردن و یکه خوردن به طور خودکار با صدای بلند و … رفتار پاسخ گر را شامل می شو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600200"/>
            <a:ext cx="8229600" cy="4525920"/>
          </a:xfrm>
          <a:prstGeom prst="rect">
            <a:avLst/>
          </a:prstGeom>
          <a:noFill/>
          <a:ln w="0">
            <a:noFill/>
          </a:ln>
        </p:spPr>
        <p:txBody>
          <a:bodyPr anchor="t">
            <a:normAutofit fontScale="90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رفتار کنشگر(رفتار فعال)، رفتاری است که به وسیله محرک شناخته شده فراخوانده نمی شود بلکه صرفا از طریق جاندار صادر می شود. اسکینر نمی گفت این گونه رفتار مستقل از تحریک روی می دهد، بلکه می گفت محرکی که این گونه رفتار را سبب می شود نا شناخته است و دانستن علت های این رفتار اهمیت ندارد. مثال های رفتارهای کنشگر عبارتند از سوت زدن، برخاستن و راه رفتن، رها کردن یک وسیله بازی و انتخاب وسیله ای دیگر و … که می توان گفت اکثر فعالیت های روزانه ما کنشگر هستن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68360" y="907920"/>
            <a:ext cx="8229600" cy="4525920"/>
          </a:xfrm>
          <a:prstGeom prst="rect">
            <a:avLst/>
          </a:prstGeom>
          <a:noFill/>
          <a:ln w="0">
            <a:noFill/>
          </a:ln>
        </p:spPr>
        <p:txBody>
          <a:bodyPr anchor="t">
            <a:normAutofit fontScale="78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به  اسکینر به عنوان پدر شرطی سازی عامل نگریسته می‌شود، اما کار او بر اساس قانون اثر ثرندایک (</a:t>
            </a:r>
            <a:r>
              <a:rPr b="0" lang="fa-IR" sz="3200" spc="-1" strike="noStrike">
                <a:solidFill>
                  <a:srgbClr val="000000"/>
                </a:solidFill>
                <a:latin typeface="Arial"/>
                <a:cs typeface="B Nazanin"/>
              </a:rPr>
              <a:t>۱۸۹۸</a:t>
            </a:r>
            <a:r>
              <a:rPr b="0" lang="fa-IR" sz="3200" spc="-1" strike="noStrike">
                <a:solidFill>
                  <a:srgbClr val="000000"/>
                </a:solidFill>
                <a:latin typeface="Arial"/>
                <a:ea typeface="B Nazanin"/>
              </a:rPr>
              <a:t>) استوار بود. با توجه به این اصل، رفتاری که به دنبال نتایجی دلپذیر هستند، احتمالا تکرار می‌شود و رفتاری که ناشی از ننایجی ناخوشایند باشد از احتمال کمتری برای تکرار شدن برخوردار است.</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سکینر یک اصطلاح جدید را به قانون اثر معرفی کرد – تقویت. رفتار تقویت شده تمایل به تکرار شدن دارد (به عبارت دیگر تحکیم شده)؛ رفتار تقویت نشده نیز تمایل دارد تا که از بین رفته یا خاموش شود (به عبارت دیگر تضعیف شد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95280" y="1080"/>
            <a:ext cx="8229600" cy="6667560"/>
          </a:xfrm>
          <a:prstGeom prst="rect">
            <a:avLst/>
          </a:prstGeom>
          <a:noFill/>
          <a:ln w="0">
            <a:noFill/>
          </a:ln>
        </p:spPr>
        <p:txBody>
          <a:bodyPr anchor="t">
            <a:normAutofit fontScale="86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wpyar-BYekan"/>
                <a:cs typeface="B Nazanin"/>
              </a:rPr>
              <a:t>اسکینر (</a:t>
            </a:r>
            <a:r>
              <a:rPr b="0" lang="fa-IR" sz="3200" spc="-1" strike="noStrike">
                <a:solidFill>
                  <a:srgbClr val="000000"/>
                </a:solidFill>
                <a:latin typeface="wpyar-BYekan"/>
                <a:cs typeface="B Nazanin"/>
              </a:rPr>
              <a:t>۱۹۴۸</a:t>
            </a:r>
            <a:r>
              <a:rPr b="0" lang="fa-IR" sz="3200" spc="-1" strike="noStrike">
                <a:solidFill>
                  <a:srgbClr val="000000"/>
                </a:solidFill>
                <a:latin typeface="wpyar-BYekan"/>
                <a:ea typeface="B Nazanin"/>
              </a:rPr>
              <a:t>) شرطی سازی عامل را با انجام آزمایشی که در طی آن حیواناتی را در جعبه اسکینر قرار داده بود و شبیه به جعبه پازل ثرندایک بود مورد مطالعه قرار داد. اسکینر سه نوع پاسخ یا عامل را مورد شناسایی قرار داد که می‌توانند دنبال کننده‌ی رفتار باشن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wpyar-BYekan"/>
                <a:cs typeface="B Nazanin"/>
              </a:rPr>
              <a:t>عامل‌های خنثی</a:t>
            </a:r>
            <a:r>
              <a:rPr b="0" lang="fa-IR" sz="3200" spc="-1" strike="noStrike">
                <a:solidFill>
                  <a:srgbClr val="000000"/>
                </a:solidFill>
                <a:latin typeface="wpyar-BYekan"/>
                <a:ea typeface="B Nazanin"/>
              </a:rPr>
              <a:t>:‌ پاسخ هایی از جانب محیط که نقشی در افزایش یا کاهش احتمال تکرار یک رفتار ندارن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wpyar-BYekan"/>
                <a:cs typeface="B Nazanin"/>
              </a:rPr>
              <a:t>تقویت کننده‌ها</a:t>
            </a:r>
            <a:r>
              <a:rPr b="0" lang="fa-IR" sz="3200" spc="-1" strike="noStrike">
                <a:solidFill>
                  <a:srgbClr val="000000"/>
                </a:solidFill>
                <a:latin typeface="wpyar-BYekan"/>
                <a:ea typeface="B Nazanin"/>
              </a:rPr>
              <a:t>: پاسخ‌هایی از جانب محیط که باعث افزایش احتمال تکرار رفتار می‌شوند. تقویت کننده‌ها می‌توانند مثبت یا منفی باشن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wpyar-BYekan"/>
                <a:cs typeface="B Nazanin"/>
              </a:rPr>
              <a:t>تنبیهات:</a:t>
            </a:r>
            <a:r>
              <a:rPr b="0" lang="fa-IR" sz="3200" spc="-1" strike="noStrike">
                <a:solidFill>
                  <a:srgbClr val="000000"/>
                </a:solidFill>
                <a:latin typeface="wpyar-BYekan"/>
                <a:ea typeface="B Nazanin"/>
              </a:rPr>
              <a:t> پاسخ‌هایی از جانب محیط که احتمال تکرار وقوع یک رفتار را کاهش می‌دهند. تنبیه رفتار را تضعیف می‌کند.</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0" y="0"/>
            <a:ext cx="9036000" cy="4525920"/>
          </a:xfrm>
          <a:prstGeom prst="rect">
            <a:avLst/>
          </a:prstGeom>
          <a:noFill/>
          <a:ln w="0">
            <a:noFill/>
          </a:ln>
        </p:spPr>
        <p:txBody>
          <a:bodyPr anchor="t">
            <a:normAutofit fontScale="73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همه‌ی ما می‌توانیم نمونه‌هایی از نحوه رفتار خودمان توسط تقویت کننده‌ها و تنبیهات را در نظر بگیریم. احتمالا هنگامی که کودک بودید، شما تعدادی از رفتارها را آزمایش کرده و از نتایج آن مطلع شده‌ای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به عنوان مثال، هنگامی که شخصی سعی کرده است در مدرسه سیگار بکشد و نتیجه برجسته‌ی این اقدام این بوده است که با گروهی که همیشه می‌خواستند همراه شده است. در این حال ممکن است شخص با تقویت مثبت مواجه شده باشد (مثلا پاداش) و در نتیجه احتمالا این رفتار را تکرار کرده است.</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با این حال چنانچه نتیجه اصلی این اقدام این بود که این شخص گرفتار می‌شد، و حضورش در مدرسه به حالت تعلیق در می‌آمد و والدینش نیز درگیر این موضوع شده و مطمئنا با تنبیه مواجه می‌شدد، نتیجه‌ این می‌شد که به احتمال کمتری در حال حاضر سیگاری بو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68360" y="260280"/>
            <a:ext cx="8229600" cy="6337440"/>
          </a:xfrm>
          <a:prstGeom prst="rect">
            <a:avLst/>
          </a:prstGeom>
          <a:noFill/>
          <a:ln w="0">
            <a:noFill/>
          </a:ln>
        </p:spPr>
        <p:txBody>
          <a:bodyPr anchor="t">
            <a:normAutofit fontScale="88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Arial"/>
                <a:cs typeface="B Nazanin"/>
              </a:rPr>
              <a:t>تقویت مثبت</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سکینر نشان داد که تقویت مثبت چگونه با قرار دادن یک موش گرسنه در جعبه‌ی اسکینر کار می‌کند. جعبه حاوی یک اهرم در یک سمت بود و هنگامی که موش به جعبه انتقال یافت، به طور اتفاقی به اهرم ضربه وارد کرد. بلافاصله پس از انجام این کار قطعه‌ای از غذا به داخل ظرفی که در کنار اهرم قرار داشت می‌افتا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موش‌ها پس از اینکه چندین بار در جعبه قرار داده شدند، به سرعت آموختند که باید مستقیما به سراغ اهرم بروند. دریافت غذا در صورت فشار دادن اهرم یک نتیجه‌ی تضمین شده بود و به همین دلیل آنها دوباره و دوباره آن کار را تکرار می‌کرد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250560" y="476280"/>
            <a:ext cx="8893080" cy="6121440"/>
          </a:xfrm>
          <a:prstGeom prst="rect">
            <a:avLst/>
          </a:prstGeom>
          <a:noFill/>
          <a:ln w="0">
            <a:noFill/>
          </a:ln>
        </p:spPr>
        <p:txBody>
          <a:bodyPr anchor="t">
            <a:normAutofit fontScale="89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اصطلاح شناسی نظریه پاولف</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محر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هر موقعیت یا رویداد (نظیر نشان دادن غذا و …) قابل توصیف به شیوه عینی (قابل مشاهده) که به صورت یک علامت جاندار برای پاسخ دادن تحریک کند، محرک (</a:t>
            </a:r>
            <a:r>
              <a:rPr b="0" lang="en-US" sz="3200" spc="-1" strike="noStrike">
                <a:solidFill>
                  <a:srgbClr val="000000"/>
                </a:solidFill>
                <a:latin typeface="Arial"/>
                <a:ea typeface="B Nazanin"/>
              </a:rPr>
              <a:t>Stimulus</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نامید‌ه می‌شود که با حرف اختصاری (</a:t>
            </a:r>
            <a:r>
              <a:rPr b="0" lang="en-US" sz="3200" spc="-1" strike="noStrike">
                <a:solidFill>
                  <a:srgbClr val="000000"/>
                </a:solidFill>
                <a:latin typeface="Arial"/>
                <a:ea typeface="B Nazanin"/>
              </a:rPr>
              <a:t>S</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بیان می‌گرد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پاسخ</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هر نوع رفتاری که در اثر یک محرک به صورت یک تراوش در غده ، پاسخ سیستم عصبی و یا فعالیت جاندار (نظیر خوردن ، خواندن) ظاهر می‌شود، پاسخ (</a:t>
            </a:r>
            <a:r>
              <a:rPr b="0" lang="en-US" sz="3200" spc="-1" strike="noStrike">
                <a:solidFill>
                  <a:srgbClr val="000000"/>
                </a:solidFill>
                <a:latin typeface="Arial"/>
                <a:ea typeface="B Nazanin"/>
              </a:rPr>
              <a:t>Response</a:t>
            </a:r>
            <a:r>
              <a:rPr b="0" lang="fa-IR" sz="3200" spc="-1" strike="noStrike">
                <a:solidFill>
                  <a:srgbClr val="000000"/>
                </a:solidFill>
                <a:latin typeface="Arial"/>
                <a:ea typeface="B Nazanin"/>
              </a:rPr>
              <a:t>)نامیده می‌‌شود که با حرف اختصاری (</a:t>
            </a:r>
            <a:r>
              <a:rPr b="0" lang="en-US" sz="3200" spc="-1" strike="noStrike">
                <a:solidFill>
                  <a:srgbClr val="000000"/>
                </a:solidFill>
                <a:latin typeface="Arial"/>
                <a:ea typeface="B Nazanin"/>
              </a:rPr>
              <a:t>R</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بیان می‌ گرد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600200"/>
            <a:ext cx="8229600" cy="4525920"/>
          </a:xfrm>
          <a:prstGeom prst="rect">
            <a:avLst/>
          </a:prstGeom>
          <a:noFill/>
          <a:ln w="0">
            <a:noFill/>
          </a:ln>
        </p:spPr>
        <p:txBody>
          <a:bodyPr anchor="t">
            <a:norm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تقویت مثبت تقویت کننده‌ی رفتاری است که در نتیجه‌ی آن فردی پاداش دریافت می‌کند. به عنوان مثال، اگر معلم شما هر بار که تکالیف خود را انجام می‌دهید (به عنوان پاداش) به شما نمره ارفاقی بدهد، احتمال بیشتری دارد که شما این رفتار را در آینده تکرار کنید، بنابراین این اقدام، رفتار انجام تکالیف شما را تقویت خواهد کر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052640"/>
            <a:ext cx="8229600" cy="4525920"/>
          </a:xfrm>
          <a:prstGeom prst="rect">
            <a:avLst/>
          </a:prstGeom>
          <a:noFill/>
          <a:ln w="0">
            <a:noFill/>
          </a:ln>
        </p:spPr>
        <p:txBody>
          <a:bodyPr anchor="t">
            <a:normAutofit fontScale="74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wpyar-BYekan"/>
                <a:cs typeface="B Nazanin"/>
              </a:rPr>
              <a:t>تقویت منفی</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wpyar-BYekan"/>
                <a:cs typeface="B Nazanin"/>
              </a:rPr>
              <a:t>حذف یک تقویت کننده‌ی ناخوشایند نیز می‌تواند رفتاری را تقویت کند. این مورد با عنوان تقویت منفی شناخته می‌شود، زیرا حذف یک محرک نامطلوب است که برای حیوان یا شخص «پاداش» را در پی خواهد داشت. تقویت منفی موجب تقویت رفتار می‌شود، زیرا تجربه‌ای ناخوشایند را متوقف کرده یا آن را از بین می‌بر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wpyar-BYekan"/>
                <a:cs typeface="B Nazanin"/>
              </a:rPr>
              <a:t>به عنوان مثال، اگر شما تکالیف خود را انجام ندهید، باید به معلم خود نمره های ارفاقی قبلی  را پس بدهید. شما برای اینکه از این کار جلوگیری کنید، تکالیف خود را انجام می‌دهید. بنابراین این اقدام، رفتار انجام تکالیف شما را تقویت خواهد کرد.</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95280" y="764640"/>
            <a:ext cx="8229600" cy="4526280"/>
          </a:xfrm>
          <a:prstGeom prst="rect">
            <a:avLst/>
          </a:prstGeom>
          <a:noFill/>
          <a:ln w="0">
            <a:noFill/>
          </a:ln>
        </p:spPr>
        <p:txBody>
          <a:bodyPr anchor="t">
            <a:normAutofit fontScale="73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سکینر نشان داد که تقویت منفی بدین صورت کار می‌کند که یک موش در جعبه اسکینر قرار داده شده و در صورتیکه برخی از موارد نامطلوب (از جانب موش) رخ دهد، یک جریان برق ناخوشایند به جعبه (و در نتیجه به موش) اعمال خواهد شد. هنگامی که موش به جعبه منتقل شد، به طور تصادفی با اهرم برخورد کرد و بلافاصله پس از آن جریان الکتریکی خاموش می‌شو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موش‌ها پس از اینکه چندین بار در جعبه قرار داده شدند، به سرعت آموختند که باید مستقیماً به سراغ اهرم بروند. مطمئن بودن از خلاصی یافتن از جریان الکتریکی (توسط تماس با اهرم)، سبب می‌شد تا آنها دوباره و دوباره این عمل را تکرار کن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fontScale="95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سکینر حتی موش‌ها را به این صورت نیز آموزش داد که برای جلوگیری از جریان الکتریکی، چراغی قبل از اینکه جریان الکتریکی وارد شود روشن می‌شد. موش‌ها به زودی یاد گرفتند که وقتی که نور آمد، اهرم را فشار دهند، زیرا می‌دانستند که این امر جریان برق را متوقف خواهد کر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این دو پاسخ یادگیری شده با عناوین </a:t>
            </a:r>
            <a:r>
              <a:rPr b="1" lang="fa-IR" sz="3200" spc="-1" strike="noStrike">
                <a:solidFill>
                  <a:srgbClr val="ff0000"/>
                </a:solidFill>
                <a:latin typeface="Arial"/>
                <a:cs typeface="B Nazanin"/>
              </a:rPr>
              <a:t>یادگیری گریز </a:t>
            </a:r>
            <a:r>
              <a:rPr b="0" lang="fa-IR" sz="3200" spc="-1" strike="noStrike">
                <a:solidFill>
                  <a:srgbClr val="000000"/>
                </a:solidFill>
                <a:latin typeface="Arial"/>
                <a:cs typeface="B Nazanin"/>
              </a:rPr>
              <a:t>و </a:t>
            </a:r>
            <a:r>
              <a:rPr b="1" lang="fa-IR" sz="3200" spc="-1" strike="noStrike">
                <a:solidFill>
                  <a:srgbClr val="ff0000"/>
                </a:solidFill>
                <a:latin typeface="Arial"/>
                <a:cs typeface="B Nazanin"/>
              </a:rPr>
              <a:t>یادگیری اجتناب</a:t>
            </a:r>
            <a:r>
              <a:rPr b="0" lang="fa-IR" sz="3200" spc="-1" strike="noStrike">
                <a:solidFill>
                  <a:srgbClr val="000000"/>
                </a:solidFill>
                <a:latin typeface="Arial"/>
                <a:ea typeface="B Nazanin"/>
              </a:rPr>
              <a:t> شناخته می‌شو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95280" y="260280"/>
            <a:ext cx="8229600" cy="4525920"/>
          </a:xfrm>
          <a:prstGeom prst="rect">
            <a:avLst/>
          </a:prstGeom>
          <a:noFill/>
          <a:ln w="0">
            <a:noFill/>
          </a:ln>
        </p:spPr>
        <p:txBody>
          <a:bodyPr anchor="t">
            <a:normAutofit fontScale="78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تنبیهات (تضعیف رفتار)</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تنبیه در مقابل تقویت تعریف می‌گردد، زیرا به جای اینکه به دنبال افزایش دادن یک پاسخ باشد، در پی کاهش یا حذف آن است. این یک رویداد ناگوار است که در نتیجه رفتاری را که در پی آن اتفاق می‌افتد را کاهش می‌ده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همانند تقویت، مجازات هم می‌تواند به طور مستقیم با استفاده از یک محرک ناخوشایند مانند یک شوک پس از پاسخ اعمال شود و یا با حذف محرک بالقوه پاداش دهنده همراه باشد. برای مثال، کم کردن پول توجیبی یک فرد به منظور تنبیه او در ازای رفتاری نامطلو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08000" y="115920"/>
            <a:ext cx="9036000" cy="4525920"/>
          </a:xfrm>
          <a:prstGeom prst="rect">
            <a:avLst/>
          </a:prstGeom>
          <a:noFill/>
          <a:ln w="0">
            <a:noFill/>
          </a:ln>
        </p:spPr>
        <p:txBody>
          <a:bodyPr anchor="t">
            <a:normAutofit fontScale="73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نکته: </a:t>
            </a:r>
            <a:r>
              <a:rPr b="0" lang="fa-IR" sz="3200" spc="-1" strike="noStrike">
                <a:solidFill>
                  <a:srgbClr val="000000"/>
                </a:solidFill>
                <a:latin typeface="Arial"/>
                <a:cs typeface="B Nazanin"/>
              </a:rPr>
              <a:t>همیشه ایجاد تمایز بین تنبیه و تقویت منفی آسان نیست.</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مشکلات زیادی از قبیل موارد زیر در خصوص استفاده از تنبیه وجود دار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رفتار مورد تنبیه واقع شده فراموش نمی‌گردد، بلکه سرکوب می‌شود – وقتی مجازات دیگر وجود نداشته باشد، رفتار دوباره باز می‌گرد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باعث افزایش تهاجم و خشونت می‌شود- نشان می‌دهد که تهاجم یک راه برای مقابله با مشکلات است.</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می‌تواند باعث ایجاد ترس شود و به رفتارهای نامطلوب تعمیم یابد، مثلا ترس از مدرسه.</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لزوماً به رفتار موردنظر منتهی نمی‌شود – تقویت به شما می‌گوید که چه کار باید بکنید، مجازات تنها به شما می‌گوید که نباید آن کار را انجام دهی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94920" y="764640"/>
            <a:ext cx="8497800" cy="6093000"/>
          </a:xfrm>
          <a:prstGeom prst="rect">
            <a:avLst/>
          </a:prstGeom>
          <a:noFill/>
          <a:ln w="0">
            <a:noFill/>
          </a:ln>
        </p:spPr>
        <p:txBody>
          <a:bodyPr anchor="t">
            <a:normAutofit fontScale="88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محرک غیر شرطی</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در نظریه شرطی شدن کلاسیک (بازتاب) به محرکی که بطور خودکار و بدون یادگیری قبلی پاسخی را موجب می‌شود، محرک غیر شرطی (</a:t>
            </a:r>
            <a:r>
              <a:rPr b="0" lang="en-US" sz="3200" spc="-1" strike="noStrike">
                <a:solidFill>
                  <a:srgbClr val="000000"/>
                </a:solidFill>
                <a:latin typeface="Arial"/>
                <a:ea typeface="B Nazanin"/>
              </a:rPr>
              <a:t>Unconditioned Stimulus</a:t>
            </a:r>
            <a:r>
              <a:rPr b="0" lang="fa-IR" sz="3200" spc="-1" strike="noStrike">
                <a:solidFill>
                  <a:srgbClr val="000000"/>
                </a:solidFill>
                <a:latin typeface="Arial"/>
                <a:ea typeface="B Nazanin"/>
              </a:rPr>
              <a:t>)می‌گویند که با حرف اختصاری (</a:t>
            </a:r>
            <a:r>
              <a:rPr b="0" lang="en-US" sz="3200" spc="-1" strike="noStrike">
                <a:solidFill>
                  <a:srgbClr val="000000"/>
                </a:solidFill>
                <a:latin typeface="Arial"/>
                <a:ea typeface="B Nazanin"/>
              </a:rPr>
              <a:t>US</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بیان می‌گردد. نظیر غذا ، درد و …</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پاسخ غیر شرطی</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در شرطی سازی کلاسیک به پاسخی که در برابر یک معرف غیر شرطی ظاهر می‌‌شود پاسخ غیر شرطی</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a:t>
            </a:r>
            <a:r>
              <a:rPr b="0" lang="en-US" sz="3200" spc="-1" strike="noStrike">
                <a:solidFill>
                  <a:srgbClr val="000000"/>
                </a:solidFill>
                <a:latin typeface="Arial"/>
                <a:ea typeface="B Nazanin"/>
              </a:rPr>
              <a:t>Unconditioned Response</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می‌‌گویند که با حرف اختصاری (</a:t>
            </a:r>
            <a:r>
              <a:rPr b="0" lang="en-US" sz="3200" spc="-1" strike="noStrike">
                <a:solidFill>
                  <a:srgbClr val="000000"/>
                </a:solidFill>
                <a:latin typeface="Arial"/>
                <a:ea typeface="B Nazanin"/>
              </a:rPr>
              <a:t>UR</a:t>
            </a:r>
            <a:r>
              <a:rPr b="0" lang="fa-IR" sz="3200" spc="-1" strike="noStrike">
                <a:solidFill>
                  <a:srgbClr val="000000"/>
                </a:solidFill>
                <a:latin typeface="Arial"/>
                <a:ea typeface="B Nazanin"/>
              </a:rPr>
              <a:t>)بیان می‌گردد. نظیر ترشح بزاق (پاسخ) به علت دیدن یا بوکردن غذا (محرک غیر شرطی) بوجود می‌ آی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0" y="260280"/>
            <a:ext cx="9036000" cy="4525920"/>
          </a:xfrm>
          <a:prstGeom prst="rect">
            <a:avLst/>
          </a:prstGeom>
          <a:noFill/>
          <a:ln w="0">
            <a:noFill/>
          </a:ln>
        </p:spPr>
        <p:txBody>
          <a:bodyPr anchor="t">
            <a:normAutofit fontScale="72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محرک شرطی</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در شرطی شدن کلاسیک محرکی که بر اثر همابندی (همراه شدن) با یک محرک غیر شرطی قدرت فراخوانی پاسخ را کسب می‌‌کند محرک شرطی (</a:t>
            </a:r>
            <a:r>
              <a:rPr b="0" lang="en-US" sz="3200" spc="-1" strike="noStrike">
                <a:solidFill>
                  <a:srgbClr val="000000"/>
                </a:solidFill>
                <a:latin typeface="Arial"/>
                <a:ea typeface="B Nazanin"/>
              </a:rPr>
              <a:t>Conditioned Stimulus</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می‌گویند که با حرف اختصاری (</a:t>
            </a:r>
            <a:r>
              <a:rPr b="0" lang="en-US" sz="3200" spc="-1" strike="noStrike">
                <a:solidFill>
                  <a:srgbClr val="000000"/>
                </a:solidFill>
                <a:latin typeface="Arial"/>
                <a:ea typeface="B Nazanin"/>
              </a:rPr>
              <a:t>CS</a:t>
            </a:r>
            <a:r>
              <a:rPr b="0" lang="fa-IR" sz="3200" spc="-1" strike="noStrike">
                <a:solidFill>
                  <a:srgbClr val="000000"/>
                </a:solidFill>
                <a:latin typeface="Arial"/>
                <a:ea typeface="B Nazanin"/>
              </a:rPr>
              <a:t>)بیان می‌گردد. نظیر صدای زنگ که ابتدا خنثی است و پس از همراه شدن با غذا قدرت فراخوانی پاسخ (ترشح بزاق) را کسب می‌‌کند.</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پاسخ شرطی</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در شرطی سازی کلاسیک پاسخی که در برابر یک محرک خنثی وجود نداشت و بعدا بوجود آمد (یاد گرفته شد) پاسخ شرطی (</a:t>
            </a:r>
            <a:r>
              <a:rPr b="0" lang="en-US" sz="3200" spc="-1" strike="noStrike">
                <a:solidFill>
                  <a:srgbClr val="000000"/>
                </a:solidFill>
                <a:latin typeface="Arial"/>
                <a:ea typeface="B Nazanin"/>
              </a:rPr>
              <a:t>Conditioned Response</a:t>
            </a:r>
            <a:r>
              <a:rPr b="0" lang="fa-IR" sz="3200" spc="-1" strike="noStrike">
                <a:solidFill>
                  <a:srgbClr val="000000"/>
                </a:solidFill>
                <a:latin typeface="Arial"/>
                <a:ea typeface="B Nazanin"/>
              </a:rPr>
              <a:t>)</a:t>
            </a:r>
            <a:r>
              <a:rPr b="0" lang="en-US" sz="3200" spc="-1" strike="noStrike">
                <a:solidFill>
                  <a:srgbClr val="000000"/>
                </a:solidFill>
                <a:latin typeface="Arial"/>
                <a:ea typeface="B Nazanin"/>
              </a:rPr>
              <a:t> </a:t>
            </a:r>
            <a:r>
              <a:rPr b="0" lang="fa-IR" sz="3200" spc="-1" strike="noStrike">
                <a:solidFill>
                  <a:srgbClr val="000000"/>
                </a:solidFill>
                <a:latin typeface="Arial"/>
                <a:cs typeface="B Nazanin"/>
              </a:rPr>
              <a:t>می‌گویند که با حرف اختصاری (</a:t>
            </a:r>
            <a:r>
              <a:rPr b="0" lang="en-US" sz="3200" spc="-1" strike="noStrike">
                <a:solidFill>
                  <a:srgbClr val="000000"/>
                </a:solidFill>
                <a:latin typeface="Arial"/>
                <a:ea typeface="B Nazanin"/>
              </a:rPr>
              <a:t>CR</a:t>
            </a:r>
            <a:r>
              <a:rPr b="0" lang="fa-IR" sz="3200" spc="-1" strike="noStrike">
                <a:solidFill>
                  <a:srgbClr val="000000"/>
                </a:solidFill>
                <a:latin typeface="Arial"/>
                <a:ea typeface="B Nazanin"/>
              </a:rPr>
              <a:t>)بیان می‌‌گردد. نظیر پاسخ ترشح بزاق که ابتدا برای محرک شرطی صدای زنگ وجود نداشت و بعدا بوجود آمد (یاد گرفته ش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324000" y="404640"/>
            <a:ext cx="8518320" cy="5616720"/>
          </a:xfrm>
          <a:prstGeom prst="rect">
            <a:avLst/>
          </a:prstGeom>
          <a:noFill/>
          <a:ln w="0">
            <a:noFill/>
          </a:ln>
        </p:spPr>
        <p:txBody>
          <a:bodyPr anchor="t">
            <a:normAutofit fontScale="88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azir"/>
                <a:ea typeface="B Nazanin"/>
              </a:rPr>
              <a:t> طبق آزمایشات پاولف برای شرطی کردن حیوان مراحل زیر را انجام می دهیم:</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azir"/>
                <a:ea typeface="B Nazanin"/>
              </a:rPr>
              <a:t>    </a:t>
            </a:r>
            <a:r>
              <a:rPr b="0" lang="fa-IR" sz="3200" spc="-1" strike="noStrike">
                <a:solidFill>
                  <a:srgbClr val="000000"/>
                </a:solidFill>
                <a:latin typeface="Vazir"/>
                <a:ea typeface="B Nazanin"/>
              </a:rPr>
              <a:t>1</a:t>
            </a:r>
            <a:r>
              <a:rPr b="0" lang="fa-IR" sz="3200" spc="-1" strike="noStrike">
                <a:solidFill>
                  <a:srgbClr val="000000"/>
                </a:solidFill>
                <a:latin typeface="Vazir"/>
                <a:ea typeface="B Nazanin"/>
              </a:rPr>
              <a:t>- محرکی مانند غذا به حیوان ارائه می کنیم که یک واکنش طبیعی و خودکار در ارگانیسم بدن مانند ترشح بزاق ایجاد می کند. به غذا که این واکنش طبیعی را ایجاد میکند محرک غیرشرطی (</a:t>
            </a:r>
            <a:r>
              <a:rPr b="0" lang="en-US" sz="3200" spc="-1" strike="noStrike">
                <a:solidFill>
                  <a:srgbClr val="000000"/>
                </a:solidFill>
                <a:latin typeface="Vazir"/>
                <a:ea typeface="B Nazanin"/>
              </a:rPr>
              <a:t>US</a:t>
            </a:r>
            <a:r>
              <a:rPr b="0" lang="fa-IR" sz="3200" spc="-1" strike="noStrike">
                <a:solidFill>
                  <a:srgbClr val="000000"/>
                </a:solidFill>
                <a:latin typeface="Vazir"/>
                <a:ea typeface="B Nazanin"/>
              </a:rPr>
              <a:t>)</a:t>
            </a:r>
            <a:r>
              <a:rPr b="0" lang="en-US" sz="3200" spc="-1" strike="noStrike">
                <a:solidFill>
                  <a:srgbClr val="000000"/>
                </a:solidFill>
                <a:latin typeface="Vazir"/>
                <a:ea typeface="B Nazanin"/>
              </a:rPr>
              <a:t> </a:t>
            </a:r>
            <a:r>
              <a:rPr b="0" lang="fa-IR" sz="3200" spc="-1" strike="noStrike">
                <a:solidFill>
                  <a:srgbClr val="000000"/>
                </a:solidFill>
                <a:latin typeface="Vazir"/>
                <a:cs typeface="B Nazanin"/>
              </a:rPr>
              <a:t>گفته می شود. و واکنش طبیعی و خودکار ارگانیسم بدن به محرک غیرشرطی را پاسخ غیرشرطی (</a:t>
            </a:r>
            <a:r>
              <a:rPr b="0" lang="en-US" sz="3200" spc="-1" strike="noStrike">
                <a:solidFill>
                  <a:srgbClr val="000000"/>
                </a:solidFill>
                <a:latin typeface="Vazir"/>
                <a:ea typeface="B Nazanin"/>
              </a:rPr>
              <a:t>UR</a:t>
            </a:r>
            <a:r>
              <a:rPr b="0" lang="en-US" sz="3200" spc="-1" strike="noStrike">
                <a:solidFill>
                  <a:srgbClr val="000000"/>
                </a:solidFill>
                <a:latin typeface="Vazir"/>
                <a:ea typeface="B Nazanin"/>
              </a:rPr>
              <a:t> </a:t>
            </a:r>
            <a:r>
              <a:rPr b="0" lang="fa-IR" sz="3200" spc="-1" strike="noStrike">
                <a:solidFill>
                  <a:srgbClr val="000000"/>
                </a:solidFill>
                <a:latin typeface="Vazir"/>
                <a:ea typeface="B Nazanin"/>
              </a:rPr>
              <a:t>)می گویند مانند ترشح بزاق.</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azir"/>
                <a:ea typeface="B Nazanin"/>
              </a:rPr>
              <a:t>   </a:t>
            </a:r>
            <a:r>
              <a:rPr b="0" lang="fa-IR" sz="3200" spc="-1" strike="noStrike">
                <a:solidFill>
                  <a:srgbClr val="000000"/>
                </a:solidFill>
                <a:latin typeface="Vazir"/>
                <a:ea typeface="B Nazanin"/>
              </a:rPr>
              <a:t>2</a:t>
            </a:r>
            <a:r>
              <a:rPr b="0" lang="fa-IR" sz="3200" spc="-1" strike="noStrike">
                <a:solidFill>
                  <a:srgbClr val="000000"/>
                </a:solidFill>
                <a:latin typeface="Vazir"/>
                <a:ea typeface="B Nazanin"/>
              </a:rPr>
              <a:t>- یک محرک خنثی ،مانند صدای زنگ (</a:t>
            </a:r>
            <a:r>
              <a:rPr b="0" lang="en-US" sz="3200" spc="-1" strike="noStrike">
                <a:solidFill>
                  <a:srgbClr val="000000"/>
                </a:solidFill>
                <a:latin typeface="Vazir"/>
                <a:ea typeface="B Nazanin"/>
              </a:rPr>
              <a:t>s</a:t>
            </a:r>
            <a:r>
              <a:rPr b="0" lang="fa-IR" sz="3200" spc="-1" strike="noStrike">
                <a:solidFill>
                  <a:srgbClr val="000000"/>
                </a:solidFill>
                <a:latin typeface="Vazir"/>
                <a:ea typeface="B Nazanin"/>
              </a:rPr>
              <a:t>)</a:t>
            </a:r>
            <a:r>
              <a:rPr b="0" lang="en-US" sz="3200" spc="-1" strike="noStrike">
                <a:solidFill>
                  <a:srgbClr val="000000"/>
                </a:solidFill>
                <a:latin typeface="Vazir"/>
                <a:ea typeface="B Nazanin"/>
              </a:rPr>
              <a:t> ،</a:t>
            </a:r>
            <a:r>
              <a:rPr b="0" lang="fa-IR" sz="3200" spc="-1" strike="noStrike">
                <a:solidFill>
                  <a:srgbClr val="000000"/>
                </a:solidFill>
                <a:latin typeface="Vazir"/>
                <a:cs typeface="B Nazanin"/>
              </a:rPr>
              <a:t>قبل از محرک غیر شرطی به ارگانیسم ارائه می شود که پیش از شرطی شدن هیچ گونه پاسخی ایجاد نمی کند ، ویا اگر هم ایجاد کند غیر از ترشح بزاق است ،مانند توجه کردن.</a:t>
            </a: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Picture 2" descr=""/>
          <p:cNvPicPr/>
          <p:nvPr/>
        </p:nvPicPr>
        <p:blipFill>
          <a:blip r:embed="rId1"/>
          <a:stretch/>
        </p:blipFill>
        <p:spPr>
          <a:xfrm>
            <a:off x="684360" y="549360"/>
            <a:ext cx="7632720" cy="525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1600200"/>
            <a:ext cx="8229600" cy="4525920"/>
          </a:xfrm>
          <a:prstGeom prst="rect">
            <a:avLst/>
          </a:prstGeom>
          <a:noFill/>
          <a:ln w="0">
            <a:noFill/>
          </a:ln>
        </p:spPr>
        <p:txBody>
          <a:bodyPr anchor="t">
            <a:norm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azir"/>
                <a:ea typeface="B Nazanin"/>
              </a:rPr>
              <a:t>3</a:t>
            </a:r>
            <a:r>
              <a:rPr b="0" lang="fa-IR" sz="3200" spc="-1" strike="noStrike">
                <a:solidFill>
                  <a:srgbClr val="000000"/>
                </a:solidFill>
                <a:latin typeface="Vazir"/>
                <a:ea typeface="B Nazanin"/>
              </a:rPr>
              <a:t>- پس از چند بار همراه شدن محرک غیرشرطی با محرک خنثی ،که در آن محرک خنثی پیش از محرک طبیعی می آید، محرک خنثی به تنهایی موجب ترشح بزاق می شود. اکنون ارگانیسم بدن حیوان شرطی شده است ، و محرک خنثی که اکنون محرک شرطی (</a:t>
            </a:r>
            <a:r>
              <a:rPr b="0" lang="en-US" sz="3200" spc="-1" strike="noStrike">
                <a:solidFill>
                  <a:srgbClr val="000000"/>
                </a:solidFill>
                <a:latin typeface="Vazir"/>
                <a:ea typeface="B Nazanin"/>
              </a:rPr>
              <a:t>CS</a:t>
            </a:r>
            <a:r>
              <a:rPr b="0" lang="fa-IR" sz="3200" spc="-1" strike="noStrike">
                <a:solidFill>
                  <a:srgbClr val="000000"/>
                </a:solidFill>
                <a:latin typeface="Vazir"/>
                <a:ea typeface="B Nazanin"/>
              </a:rPr>
              <a:t>)</a:t>
            </a:r>
            <a:r>
              <a:rPr b="0" lang="en-US" sz="3200" spc="-1" strike="noStrike">
                <a:solidFill>
                  <a:srgbClr val="000000"/>
                </a:solidFill>
                <a:latin typeface="Vazir"/>
                <a:ea typeface="B Nazanin"/>
              </a:rPr>
              <a:t> </a:t>
            </a:r>
            <a:r>
              <a:rPr b="0" lang="fa-IR" sz="3200" spc="-1" strike="noStrike">
                <a:solidFill>
                  <a:srgbClr val="000000"/>
                </a:solidFill>
                <a:latin typeface="Vazir"/>
                <a:cs typeface="B Nazanin"/>
              </a:rPr>
              <a:t>نام دارد به تنهایی موجب ترشح بزاق شده است. پاسخ ارگانیسم بدن حیوان(ترشح بزاق)به محرک شرطی را پاسخ شرطی (</a:t>
            </a:r>
            <a:r>
              <a:rPr b="0" lang="en-US" sz="3200" spc="-1" strike="noStrike">
                <a:solidFill>
                  <a:srgbClr val="000000"/>
                </a:solidFill>
                <a:latin typeface="Vazir"/>
                <a:ea typeface="B Nazanin"/>
              </a:rPr>
              <a:t>CR</a:t>
            </a:r>
            <a:r>
              <a:rPr b="0" lang="fa-IR" sz="3200" spc="-1" strike="noStrike">
                <a:solidFill>
                  <a:srgbClr val="000000"/>
                </a:solidFill>
                <a:latin typeface="Vazir"/>
                <a:ea typeface="B Nazanin"/>
              </a:rPr>
              <a:t>)</a:t>
            </a:r>
            <a:r>
              <a:rPr b="0" lang="en-US" sz="3200" spc="-1" strike="noStrike">
                <a:solidFill>
                  <a:srgbClr val="000000"/>
                </a:solidFill>
                <a:latin typeface="Vazir"/>
                <a:ea typeface="B Nazanin"/>
              </a:rPr>
              <a:t> </a:t>
            </a:r>
            <a:r>
              <a:rPr b="0" lang="fa-IR" sz="3200" spc="-1" strike="noStrike">
                <a:solidFill>
                  <a:srgbClr val="000000"/>
                </a:solidFill>
                <a:latin typeface="Vazir"/>
                <a:cs typeface="B Nazanin"/>
              </a:rPr>
              <a:t>گوی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68000" y="836640"/>
            <a:ext cx="8496360" cy="56167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3" descr=""/>
          <p:cNvPicPr/>
          <p:nvPr/>
        </p:nvPicPr>
        <p:blipFill>
          <a:blip r:embed="rId1"/>
          <a:stretch/>
        </p:blipFill>
        <p:spPr>
          <a:xfrm>
            <a:off x="1476360" y="549360"/>
            <a:ext cx="6191280" cy="518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www.pardweb.ir</dc:creator>
  <dc:description>www.pardweb.ir</dc:description>
  <cp:keywords>www.pardweb.ir</cp:keywords>
  <dc:language>en-US</dc:language>
  <cp:lastModifiedBy>Windows User</cp:lastModifiedBy>
  <dcterms:modified xsi:type="dcterms:W3CDTF">2020-04-04T14:57:00Z</dcterms:modified>
  <cp:revision>38</cp:revision>
  <dc:subject>www.pardweb.ir</dc:subject>
  <dc:title>www.pardweb.ir</dc:title>
</cp:coreProperties>
</file>